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A549-F06F-412A-A30F-5F6B8A86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8FC-B9BB-4A61-BF79-75967CAB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169-C73A-41E3-9E34-32585252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863-838D-41D0-BDC2-C15889DE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E2D4-F862-42EF-80D8-74323498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B75E-4018-44A4-AE33-FEA3A251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D1A-EAF5-4B97-AF9C-824004F6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194-A66D-44A0-850E-C70081E0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16F-D0F3-4736-BEFF-BF65E1FB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9AAD-269E-4501-8E18-2EEE3710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BA90-A0F0-465A-A826-7FE9090D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1C0-1A8E-4E44-BE84-C5061E3F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8B0D-D323-4C42-ABAD-03083B7948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74ED-225D-4986-BE1D-2BC2A7AB8A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tudent-Led Con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Strengths I brought to Galil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A pho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vi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chie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ttitude &amp; Eff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Te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 will be a different learner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Te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I will face going back to mainstream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Galileo – Initial though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bout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ow I learn bes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ow I work in a tea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erm Highligh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fbfbf"/>
                </a:solidFill>
                <a:latin typeface="Calibri"/>
              </a:rPr>
              <a:t>(story/pho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fbfbf"/>
                </a:solidFill>
                <a:latin typeface="Calibri"/>
              </a:rPr>
              <a:t>(story/pho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goals (1 - skil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(photos/evidence – trails, team project, community service, skills workshops/other class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Learning goals (2 - knowledg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(photos/evidence – trails, team project, community service, skills workshops/other class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Learning goals (3 – personal qualit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(photos/evidence – trails, team project, community service, skills workshops/other class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Learning goals (4 – personal qualit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(photos/evidence – trails, team project, community service, skills workshops/other class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erm 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40280" cy="28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Achievement Go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Calibri"/>
              </a:rPr>
              <a:t>Achievement G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Placeholder 3"/>
          <p:cNvSpPr/>
          <p:nvPr/>
        </p:nvSpPr>
        <p:spPr>
          <a:xfrm>
            <a:off x="4788000" y="1401840"/>
            <a:ext cx="403992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Calibri"/>
              </a:rPr>
              <a:t>Attitude &amp; Effort 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2:55:12Z</dcterms:created>
  <dc:creator>mbobeff</dc:creator>
  <dc:description/>
  <dc:language>en-US</dc:language>
  <cp:lastModifiedBy>Christopher MCCAW</cp:lastModifiedBy>
  <dcterms:modified xsi:type="dcterms:W3CDTF">2012-12-06T21:47:39Z</dcterms:modified>
  <cp:revision>12</cp:revision>
  <dc:subject/>
  <dc:title>Name</dc:title>
</cp:coreProperties>
</file>